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3659-F7B9-489D-B2AE-F2363656F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536F-E0D9-4EF6-83CF-AEED457E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0FBFA-3E76-4012-BA6C-5507EF24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A6893-2DE9-45DC-8937-1E515C09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9EFB4-FC65-4B9C-8847-7FA09972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8848D-2005-4F24-9631-C922D9A2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3C2C9-4877-4F49-9FBD-0CAD4D15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219E6-F286-4BBC-9377-97864A10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2AA34-7F5F-413E-9D34-C5780307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1A50A-F7A5-44B6-A977-E54DCEE79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FCE3E-74EB-4106-8F21-9024B874A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EB5959-A96B-4063-A760-21E27CA67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5464-CFA7-451A-A653-BBE772A3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5DDFC-8658-4A36-A41A-D015C6E4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3750A7-4892-4371-80B2-0C50F337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C8322F-73C9-44EE-98D4-61E2B446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E569E-7CD3-4144-AB6E-2D075DF1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EDBCE-F9EC-4AE6-9DA2-4BB1D9F8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18A79-A7FA-4AC3-9DFF-E053121A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9CC883-7575-4BF6-A540-19F5968C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D2A51A-A5E9-4139-8ABB-520D8586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E6BDA4-5948-4901-8AFD-D79D7BFB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E1A12-7CC1-4A0D-ABE0-C313E8687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55F3-4367-4999-BC0B-0CC21596A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08F51-BB99-4F1A-B347-B3606B036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01D5A-16D8-4C78-9043-4E5139055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50975-6DB6-4790-9020-3BCA9F64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E6178-B1DE-41FF-AD6F-4E097DE9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8C04F-DF90-455C-86AC-DF2A18A0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5BEE9-E597-4FDF-A54A-DB01B351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CF082-DC21-4391-9898-49135B73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CA3DE-4CDD-4ED0-8B13-30B0BB62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95A4D-C810-4E94-89E1-9783E029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51ABF5-50FE-4214-A1D6-89491875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103B-CCF5-4FC2-820B-9451D1072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87FAC-416A-45C4-88A1-F35170EB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C9E36-C2B1-4C9D-8F2E-7203E6510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F35D8-5E92-42F3-A235-EF4676893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F19D0E-2253-40E5-B029-EC3A9041C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FE693C-F137-4032-AFCD-62DB5A8B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BF625-504A-451A-AC2F-831E8E01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6A0B4A-B006-407B-8A30-1CB4D270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884BC-9844-4731-A3FF-63A142A4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D12AA7-AB24-457D-ABF6-973AD859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D6A3CC-FC90-441F-964F-E9B2317E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4D85-E940-4A9F-9715-162B1E09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8AEC7B-0E8D-40EB-B43D-7A5322EB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0080CC-C013-4A0D-9C56-115032E6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4E5731-8965-437D-A686-71692E3F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0B1EF-3611-4E10-B1B4-DCBD45B05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94F7C-299B-42F3-8F3E-32E746596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825D12-0D5F-4D94-A91E-6281D6856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35C048-13CC-40AF-B64E-6C764364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9C36EC-DE31-4AB1-9D1F-43B2038E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AE0B14-01C3-4315-946F-4DDDD1A0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2D0983-3224-4C49-89F6-D2208A8D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635F-0E3A-4E9C-856E-E83C8B34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7A3D1A-0FBE-4988-B0C9-6CD9D7D9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E88FD5-435E-459F-9087-DD67350E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0B6299-BD5E-4893-99B1-708F0F2B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7716CF-A0D8-4A3E-B3E9-D785B02D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521E29-CCCD-492B-A738-D00DE9AD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C91799-D51A-464B-8C9D-EDB33A7A2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775BAF-9869-4572-9BAA-7EC8C7BD3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DD19D0-BE64-491E-9ED8-670DF86B1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3ABA6B-3D55-4CFE-84A3-9383FD9E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EF375C-5A3B-4AB0-BE70-2A03E0F4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F2FC-C294-4EBF-8DDC-86E46E3F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658341-F49D-4DE7-BD91-EB856EBD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DFFB6E-383C-4CAC-ABF0-96864E2C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2DBBD3-9352-4F5C-A7DD-20962A9C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AC9CED-9F40-4580-92D0-4BBB5FDB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5EDC26-7B92-47F1-A691-0337D84C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FD40C3-0F73-42EB-81C8-2FE104B3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A1B60A-E474-440E-A08C-63AD03B7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07A436-5590-4382-BDE5-76CEC5F1B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C802F2-4396-4C1C-B77F-F17255272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EF7A02-1265-4A71-9A5C-FC694701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176B-4077-477B-977A-7792D25F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DE7192-D5B7-4B53-8B02-86EC5EF1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1DC991-0F64-429B-98AB-8D7009A3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95F0DD-3E14-422C-B98D-EF8F67E1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330545-5EC0-4494-ADC4-A203AFFC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37C441-86F6-4E16-8A89-0D6AC56E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47D6B0-488B-4CB2-B129-12F085D8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1D9CAB-B0D1-4563-83E4-1A1DD7DB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297D80-010F-449C-AD3D-7ED75C15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8C36D7-3F0C-4FB6-9092-A43830D6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8643A0-6457-4234-A53B-584EF0824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AD64-94AA-40E8-B433-28D157F5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4A44C3-531A-44A5-8F10-493468BA0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CCCF9C-9F92-4426-881A-AA82ECBE7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00B6E1-296B-45A5-925C-F51232B2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D488CB-6B59-4044-A201-F29354DE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D48F6B-10AE-4E3D-841A-B257A108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B0049D-E734-412F-B7C5-1CB0D2E2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B3F0FE-4FA7-4C04-A8CD-648753DC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0C495C-D91A-408D-8D5A-FD44B01A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F262F2-6019-4A06-AE23-9547E362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C2677F-7F51-4AED-94A5-4A8154C3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5994-2601-472D-B030-D8DFAE59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5D2821-7D1C-4366-A5E3-E3BB329A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1821C4-C52B-4073-8DD3-B45C0523D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352870-B588-4DE4-B359-0AAAD4B94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501357-8ABD-4F13-904F-E71F0FF3C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ED3E14-7FB0-4A43-9AE6-B780E566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0066E2-3863-414F-B384-4D0771AA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4FD9F8-AE37-41F4-9A51-7B99E656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CC44AD-9BAA-4BF0-A4EC-DD25F7B7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03C4CC-4CFB-4404-B0FB-CD314F5E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5801E5-A3ED-466B-97E5-BDA7EB9F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6BA7-EB28-4866-A93B-46E12F29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F6A5-CA4A-47FC-9E4B-58B9457B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96C632-3B1D-4EA1-B831-2F4FAD93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1EC4A5-66C4-4EEE-A3BD-F62FF1BB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8B27DF-405B-441E-AD0B-67661D26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60DF39-5C24-4307-B3D5-68D3CEE9C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DE4256-6735-4BCE-AA42-407091CB2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7ADEC2-8BA0-4528-875C-C08882DC2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4A17C2-3E11-4534-AF87-071AAE6E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BF1093-42B7-470D-AF61-B30CA3FA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4564C0-1175-4AE0-912A-DE80F7A1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79DC8C-EDBD-4DF1-86B4-A147B1A4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6DCA-8E9E-4355-A540-8B6BC672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0E373C-9381-48DC-BB43-BD7B2531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D3892E-0473-48B3-8615-B156CE84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341786-077E-4D82-BDA5-A3DEBC31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319DE5-16D3-421F-A075-D8EA705D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97DE1E-0B3C-4C41-853F-C212B619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232411-4F9A-45CD-9FF8-4CF1E961B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AE3951-CBD4-4CE5-B822-B962561C3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9C6975-1C3D-42CC-B92A-EF3A3650D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274AEC-8BE0-4098-83BB-7AF8BA2C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3A78A4-3670-4510-AB9A-E891C65C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493D-BBE1-4FD3-A943-20A3BD20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72A563-E531-4ACC-8FB6-CBDACBA1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299B78-BDEC-438F-9BF0-6B69E626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FE3902-0603-4B21-8951-AF83812F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DE30E5-AD83-45E5-BD8E-E5F75613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F7800F-BE14-4FFF-A266-BE23C28D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DCF8B5-9BD1-4C45-B029-4C056B68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6B74FC-0DD4-4E6D-8D8D-8F9CB7A0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6DF03D-9C58-40E6-8F57-40B8329B5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C8653D-37F5-465A-8E0D-7FA68CDE3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F821A3-58D2-4807-B272-6B9BE731A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D8D6-BE51-4305-ACAF-D6BACE17F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BE811E-3FF5-4F85-8316-3349C6CC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824EE4-0BAE-43DD-978D-C4B300CF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A18136-0255-4B23-AEC5-B2C5D1B4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10CFB1-536A-4C44-B081-D98D7969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F8391A-B70C-4CE6-94F4-267258CC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BDE68C-2028-4999-8DBB-0F800D52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808508-E286-4B64-BB6D-E0F21C8B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DD24FA-F472-40EB-A948-812A719E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E058D0-19D8-4274-A0BD-987D1101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E3AC4C-32B9-4D97-9A8F-87A4D5D3C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6566-5E5B-4921-8ABD-78488A094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1E5949-EAB4-4570-B212-E6C824A79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04CDD3-88CA-4277-B34D-1BFCF2CC0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C54620-0A50-42A0-9A1D-082EF63A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43D86E-ABAC-4940-9C5C-D4514F86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726200-52FF-40CC-8361-0EA60E60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AB40D0-AF56-4916-81FB-7FF9062D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18BE51-9478-467C-83B1-3D12F7A9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4E6E10-8CBA-4223-B84C-092DE87E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763D5F-6433-4162-8D68-50F02148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BDBE71-AC55-4BD7-8EB0-04360CCE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70276-4821-4777-A115-837497D80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5F36DA-D294-447A-A243-695E1868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0B1D55-CEBC-448D-BBD1-1C10AB0D4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87BD23-BB6F-4188-B8C0-927ECA0A5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0C76C-9792-45AD-91A6-3B2E2DB8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544F1-9303-4C5A-8C63-2FED6274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92347-62BB-4669-8888-104F8DCF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25A65-B4CF-4D88-A2EF-A45F3CBD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FA53-E936-403E-A164-17A0754D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E8285-B549-47B5-B9DF-5DB15094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F39A8-4620-473E-9D2B-CCDA173A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337E1-8F2B-4209-B264-4CC8FF59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8005D-14ED-416E-86BF-B205118A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1E342-75DB-4772-A524-4169F8EF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2F0B1-342E-44C9-BD0A-2C7EA4648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976A3-A4DF-405A-96D4-351ABCB93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19898-A5F8-41C4-8614-A731D36FC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7A217-EEB9-4F77-BC87-C055D8C5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EEEDB-5C0F-4CD8-BFBE-8078A0CE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EA62-9A6E-4BA9-9C8D-456AF811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FE34C-3DA6-4ED8-9006-0C70D291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25791-EE75-4E29-8D75-15BF7987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E84C6-78CD-44E0-B962-5EB81F38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756AC-E60C-41D4-9AD5-2DA20172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B89DC-E79D-4155-82A4-1A8919DB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DD7F1-9706-40ED-91AB-15EABD95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4309A-3D7E-4DBC-BCFF-44031BE9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08ADC-43FE-42E8-90F1-D4140DCB2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0810A-D712-490C-B094-2ED66D2C4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B7EF2-EBD9-4897-9A66-96C241AE4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7FFE-62EC-4502-91D8-68B590A6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59A21-AD23-492A-A99B-D24FAAFA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71C44-FB11-4C1B-9D19-561B9C63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7E86A-8AC5-48B8-A1F0-CD5C29F4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E43EA-B242-4B8B-B98F-E007DB94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1B854-59ED-4E89-81B9-73BBC0E9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E70CC-0868-4901-BEAC-29D8AEC3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1646F-656A-4D17-BCDF-78EA1B15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7AE70-0FBE-4360-9A4A-C4498A55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B495F-C693-433D-B96A-06422C12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4C277-A64E-4C65-BCBE-957DD9DDF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C0B8-B876-433D-A152-6F3497F7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30B36-4064-4DCF-8A68-1A08DE608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9E46B-19B2-4AAB-AC33-6DE1B233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5F82F-39A2-4EBD-B7EF-2585BC17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250FE-B937-47C1-9587-C65E6F4F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5C8E8-39CF-4B3B-8A4B-9E2319C3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0F254-6838-47D6-AC17-BC800BCC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BA45A-0A28-4CB4-998C-655A27D0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6D91D-8A80-41A8-A514-78A07D99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907B2-11C6-4564-A31A-9AD57B11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23D6A-54EE-42FB-8D67-313CB734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0E43-6174-437D-97E3-933AB0E6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E1074-8961-43FF-B5D9-A23E6A16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E4D0D-1F9E-49F9-8C6B-F6D879EA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0C836-E35E-4504-8541-6AD0AB0DB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1490D-ED09-4D34-9243-CEB2656DA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29E7B-081C-4071-BC91-120E432B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EF484-003B-4A85-A38F-F36E3DCD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A0489-E428-44B0-9487-1E41A15E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F0F7E-42D1-46AB-A7F9-71D39A80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8BF45-6938-4717-89C1-82969E15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9938A-B61D-49C1-A8D6-8EECB3BA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F160-8702-450B-B06F-54CE6D8C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43001-4AB5-4664-A371-BF9380DC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8C9EB-21E6-41FD-862C-B82F6217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1C81D-24AB-49CB-A41A-8944A853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E4670-CA81-4DB6-99F4-5E7F4089C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3CD09-F2D4-484C-973A-31247BDA1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FF10A-0DF3-4B0A-9956-47ADAD660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917E5-9C6A-4230-BF2D-BC9512C8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B3FB1-EC4C-4654-86ED-0D3AF35D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94EB8-CAF0-4A53-819B-AAC30001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4E120-C99D-4937-84DC-2ADCC590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96BA-4A9B-4B76-8706-8CD52BF0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947D8-7ED4-4F80-B00A-C022CEC4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8E657-F623-4661-AD88-DE0D18A3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15C6A-7AA8-42D5-A2BC-46677D4F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CD082-FFE5-4CF9-8BED-F3019BB6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2EE3A-1113-4952-AF2E-E3EBCB1D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54D3F-6626-46C8-B085-08EB18FAF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D98A5-310C-4A3B-BEC2-5CDA3745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756CFD-6C0C-401F-834C-4F7A4FA88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98780-0629-4A70-A3CE-9DCB9BE6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F36191-20F6-4B9E-8E70-E5333B7B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6BCD-2CF5-4E1B-BBF5-ABD5B7CC1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A21B-35BD-45C9-9CCC-0AACE100B9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0C53-72C3-4314-AF9F-D48F2FAE6C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8511-88E1-423B-84F7-0B99F7CDE7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821D-46CC-4152-B2BC-1289F241E3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B89A-C130-4B0B-95B4-F4D9945AD2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B0D2-DFB9-4628-8C19-052307F742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5A59-07CB-4BFE-BAA5-9596A3BEE2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A7FB-0345-47DB-8A0E-70EBE391C8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4F9A-AE7D-40C2-9380-0FA6D086AF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8FFC-D421-44B3-869B-DEAB4A3E51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8A6F-DC9C-4BA6-845D-DE612DDD20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6202-9C78-49C5-A2D4-F84FE53735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9D52-6D68-435C-885A-2236893CC2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2092-A34C-439A-8945-80CF2A8779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929F-86ED-47A9-9B6F-2429300079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DD13-F5EB-4F06-89C9-B25B734E5D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5D3C-B3F3-4E31-9991-E5E9A041C5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4744-B332-44E6-B50E-A61F07B92B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5327-84D1-4682-AF01-86A26F858D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62EB-FB6B-453A-B2D4-59F213B906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F75D-8688-41C2-A857-D097DCDAC2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24A6-D813-4206-A9F5-C536C13CFA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6DD2-CB38-41E1-ACC5-6C23E7CB79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46E0-5C59-451A-9F85-6D490FCF75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0A12-19EE-4575-A0E5-C98EA7183A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68B2-2762-495C-A298-E05707935F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364D-E118-45C9-9002-E04365DB5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D0E4-151F-4C6F-9ED7-145AD389B4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4100-88E1-40F1-8D52-00D5DB79D0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C5EA-A11E-456A-B840-91790B4159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38D5-C56A-453D-AF97-32BA53DD85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DEBA-4162-4437-9B3A-1C7E1F213A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39EE-3255-4A3F-89F4-AFBE65D5F0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4D73-6FAD-48F3-853E-E5477AA4D2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57AC-F4E1-4497-B9B9-2DBAD9F66D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FC6A-78D0-40C5-BE5F-6D45CDE5DD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DD03-3256-4F4A-BF5B-21CB495468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EECE-C63C-4191-A7E3-7C7D95A5E4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573B-DC7C-4826-94A8-6379AC5903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1395360" y="3024360"/>
            <a:ext cx="6353280" cy="80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4" name="Picture 2" descr=""/>
          <p:cNvPicPr/>
          <p:nvPr/>
        </p:nvPicPr>
        <p:blipFill>
          <a:blip r:embed="rId1"/>
          <a:stretch/>
        </p:blipFill>
        <p:spPr>
          <a:xfrm>
            <a:off x="900000" y="865080"/>
            <a:ext cx="7344000" cy="587700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3" descr=""/>
          <p:cNvPicPr/>
          <p:nvPr/>
        </p:nvPicPr>
        <p:blipFill>
          <a:blip r:embed="rId2"/>
          <a:stretch/>
        </p:blipFill>
        <p:spPr>
          <a:xfrm>
            <a:off x="1428840" y="857160"/>
            <a:ext cx="500040" cy="43812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3" descr=""/>
          <p:cNvPicPr/>
          <p:nvPr/>
        </p:nvPicPr>
        <p:blipFill>
          <a:blip r:embed="rId3"/>
          <a:stretch/>
        </p:blipFill>
        <p:spPr>
          <a:xfrm>
            <a:off x="1285920" y="3643200"/>
            <a:ext cx="5000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9" name="Picture 5" descr=""/>
          <p:cNvPicPr/>
          <p:nvPr/>
        </p:nvPicPr>
        <p:blipFill>
          <a:blip r:embed="rId1"/>
          <a:stretch/>
        </p:blipFill>
        <p:spPr>
          <a:xfrm>
            <a:off x="542880" y="911160"/>
            <a:ext cx="8058240" cy="568656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3" descr=""/>
          <p:cNvPicPr/>
          <p:nvPr/>
        </p:nvPicPr>
        <p:blipFill>
          <a:blip r:embed="rId2"/>
          <a:stretch/>
        </p:blipFill>
        <p:spPr>
          <a:xfrm>
            <a:off x="6786720" y="2643120"/>
            <a:ext cx="1643040" cy="43812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3" descr=""/>
          <p:cNvPicPr/>
          <p:nvPr/>
        </p:nvPicPr>
        <p:blipFill>
          <a:blip r:embed="rId3"/>
          <a:stretch/>
        </p:blipFill>
        <p:spPr>
          <a:xfrm>
            <a:off x="4857840" y="3786120"/>
            <a:ext cx="2286000" cy="43812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3" descr=""/>
          <p:cNvPicPr/>
          <p:nvPr/>
        </p:nvPicPr>
        <p:blipFill>
          <a:blip r:embed="rId4"/>
          <a:stretch/>
        </p:blipFill>
        <p:spPr>
          <a:xfrm>
            <a:off x="7143840" y="4929120"/>
            <a:ext cx="1643040" cy="43812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3" descr=""/>
          <p:cNvPicPr/>
          <p:nvPr/>
        </p:nvPicPr>
        <p:blipFill>
          <a:blip r:embed="rId5"/>
          <a:stretch/>
        </p:blipFill>
        <p:spPr>
          <a:xfrm>
            <a:off x="1143000" y="5500800"/>
            <a:ext cx="1643040" cy="4381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3" descr=""/>
          <p:cNvPicPr/>
          <p:nvPr/>
        </p:nvPicPr>
        <p:blipFill>
          <a:blip r:embed="rId6"/>
          <a:stretch/>
        </p:blipFill>
        <p:spPr>
          <a:xfrm>
            <a:off x="3214800" y="6095880"/>
            <a:ext cx="16430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7" name="Picture 2" descr=""/>
          <p:cNvPicPr/>
          <p:nvPr/>
        </p:nvPicPr>
        <p:blipFill>
          <a:blip r:embed="rId1"/>
          <a:stretch/>
        </p:blipFill>
        <p:spPr>
          <a:xfrm>
            <a:off x="490680" y="1076400"/>
            <a:ext cx="8162640" cy="530532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3" descr=""/>
          <p:cNvPicPr/>
          <p:nvPr/>
        </p:nvPicPr>
        <p:blipFill>
          <a:blip r:embed="rId2"/>
          <a:stretch/>
        </p:blipFill>
        <p:spPr>
          <a:xfrm>
            <a:off x="2928960" y="1620720"/>
            <a:ext cx="1285920" cy="4381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3" descr=""/>
          <p:cNvPicPr/>
          <p:nvPr/>
        </p:nvPicPr>
        <p:blipFill>
          <a:blip r:embed="rId3"/>
          <a:stretch/>
        </p:blipFill>
        <p:spPr>
          <a:xfrm>
            <a:off x="1643040" y="2857680"/>
            <a:ext cx="500040" cy="43812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3" descr=""/>
          <p:cNvPicPr/>
          <p:nvPr/>
        </p:nvPicPr>
        <p:blipFill>
          <a:blip r:embed="rId4"/>
          <a:stretch/>
        </p:blipFill>
        <p:spPr>
          <a:xfrm>
            <a:off x="1643040" y="3490920"/>
            <a:ext cx="500040" cy="43812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3" descr=""/>
          <p:cNvPicPr/>
          <p:nvPr/>
        </p:nvPicPr>
        <p:blipFill>
          <a:blip r:embed="rId5"/>
          <a:stretch/>
        </p:blipFill>
        <p:spPr>
          <a:xfrm>
            <a:off x="1643040" y="4062240"/>
            <a:ext cx="500040" cy="43848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3" descr=""/>
          <p:cNvPicPr/>
          <p:nvPr/>
        </p:nvPicPr>
        <p:blipFill>
          <a:blip r:embed="rId6"/>
          <a:stretch/>
        </p:blipFill>
        <p:spPr>
          <a:xfrm>
            <a:off x="1643040" y="4633920"/>
            <a:ext cx="500040" cy="43812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3" descr=""/>
          <p:cNvPicPr/>
          <p:nvPr/>
        </p:nvPicPr>
        <p:blipFill>
          <a:blip r:embed="rId7"/>
          <a:stretch/>
        </p:blipFill>
        <p:spPr>
          <a:xfrm>
            <a:off x="1714680" y="5205240"/>
            <a:ext cx="50004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6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315200" cy="531504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3" descr=""/>
          <p:cNvPicPr/>
          <p:nvPr/>
        </p:nvPicPr>
        <p:blipFill>
          <a:blip r:embed="rId2"/>
          <a:stretch/>
        </p:blipFill>
        <p:spPr>
          <a:xfrm>
            <a:off x="2478240" y="5902200"/>
            <a:ext cx="1000080" cy="43812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3" descr=""/>
          <p:cNvPicPr/>
          <p:nvPr/>
        </p:nvPicPr>
        <p:blipFill>
          <a:blip r:embed="rId3"/>
          <a:stretch/>
        </p:blipFill>
        <p:spPr>
          <a:xfrm>
            <a:off x="3929040" y="5896080"/>
            <a:ext cx="1000080" cy="43812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3" descr=""/>
          <p:cNvPicPr/>
          <p:nvPr/>
        </p:nvPicPr>
        <p:blipFill>
          <a:blip r:embed="rId4"/>
          <a:stretch/>
        </p:blipFill>
        <p:spPr>
          <a:xfrm>
            <a:off x="5226120" y="5896080"/>
            <a:ext cx="10000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2" name="Picture 2" descr=""/>
          <p:cNvPicPr/>
          <p:nvPr/>
        </p:nvPicPr>
        <p:blipFill>
          <a:blip r:embed="rId1"/>
          <a:stretch/>
        </p:blipFill>
        <p:spPr>
          <a:xfrm>
            <a:off x="826920" y="727200"/>
            <a:ext cx="7301160" cy="611640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3" descr=""/>
          <p:cNvPicPr/>
          <p:nvPr/>
        </p:nvPicPr>
        <p:blipFill>
          <a:blip r:embed="rId2"/>
          <a:stretch/>
        </p:blipFill>
        <p:spPr>
          <a:xfrm>
            <a:off x="1500120" y="1785960"/>
            <a:ext cx="1000080" cy="43812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3" descr=""/>
          <p:cNvPicPr/>
          <p:nvPr/>
        </p:nvPicPr>
        <p:blipFill>
          <a:blip r:embed="rId3"/>
          <a:stretch/>
        </p:blipFill>
        <p:spPr>
          <a:xfrm>
            <a:off x="3000240" y="1785960"/>
            <a:ext cx="1000440" cy="43812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3" descr=""/>
          <p:cNvPicPr/>
          <p:nvPr/>
        </p:nvPicPr>
        <p:blipFill>
          <a:blip r:embed="rId4"/>
          <a:stretch/>
        </p:blipFill>
        <p:spPr>
          <a:xfrm>
            <a:off x="4429080" y="1857240"/>
            <a:ext cx="1000080" cy="43812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3" descr=""/>
          <p:cNvPicPr/>
          <p:nvPr/>
        </p:nvPicPr>
        <p:blipFill>
          <a:blip r:embed="rId5"/>
          <a:stretch/>
        </p:blipFill>
        <p:spPr>
          <a:xfrm>
            <a:off x="3000240" y="3500280"/>
            <a:ext cx="1285920" cy="43848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3" descr=""/>
          <p:cNvPicPr/>
          <p:nvPr/>
        </p:nvPicPr>
        <p:blipFill>
          <a:blip r:embed="rId6"/>
          <a:stretch/>
        </p:blipFill>
        <p:spPr>
          <a:xfrm>
            <a:off x="4929120" y="3571920"/>
            <a:ext cx="1000080" cy="43812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3" descr=""/>
          <p:cNvPicPr/>
          <p:nvPr/>
        </p:nvPicPr>
        <p:blipFill>
          <a:blip r:embed="rId7"/>
          <a:stretch/>
        </p:blipFill>
        <p:spPr>
          <a:xfrm>
            <a:off x="1857240" y="5786280"/>
            <a:ext cx="1000440" cy="43848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3" descr=""/>
          <p:cNvPicPr/>
          <p:nvPr/>
        </p:nvPicPr>
        <p:blipFill>
          <a:blip r:embed="rId8"/>
          <a:stretch/>
        </p:blipFill>
        <p:spPr>
          <a:xfrm>
            <a:off x="3643200" y="5808600"/>
            <a:ext cx="1000080" cy="43812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3" descr=""/>
          <p:cNvPicPr/>
          <p:nvPr/>
        </p:nvPicPr>
        <p:blipFill>
          <a:blip r:embed="rId9"/>
          <a:stretch/>
        </p:blipFill>
        <p:spPr>
          <a:xfrm>
            <a:off x="6143760" y="5786280"/>
            <a:ext cx="100008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3" name="Picture 2" descr=""/>
          <p:cNvPicPr/>
          <p:nvPr/>
        </p:nvPicPr>
        <p:blipFill>
          <a:blip r:embed="rId1"/>
          <a:stretch/>
        </p:blipFill>
        <p:spPr>
          <a:xfrm>
            <a:off x="1182600" y="979560"/>
            <a:ext cx="7277040" cy="165744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4" descr=""/>
          <p:cNvPicPr/>
          <p:nvPr/>
        </p:nvPicPr>
        <p:blipFill>
          <a:blip r:embed="rId2"/>
          <a:stretch/>
        </p:blipFill>
        <p:spPr>
          <a:xfrm>
            <a:off x="468360" y="2835360"/>
            <a:ext cx="8105760" cy="376236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3" descr=""/>
          <p:cNvPicPr/>
          <p:nvPr/>
        </p:nvPicPr>
        <p:blipFill>
          <a:blip r:embed="rId3"/>
          <a:stretch/>
        </p:blipFill>
        <p:spPr>
          <a:xfrm>
            <a:off x="2071800" y="2143080"/>
            <a:ext cx="1357200" cy="43812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3" descr=""/>
          <p:cNvPicPr/>
          <p:nvPr/>
        </p:nvPicPr>
        <p:blipFill>
          <a:blip r:embed="rId4"/>
          <a:stretch/>
        </p:blipFill>
        <p:spPr>
          <a:xfrm>
            <a:off x="3714840" y="2143080"/>
            <a:ext cx="1000080" cy="43812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3" descr=""/>
          <p:cNvPicPr/>
          <p:nvPr/>
        </p:nvPicPr>
        <p:blipFill>
          <a:blip r:embed="rId5"/>
          <a:stretch/>
        </p:blipFill>
        <p:spPr>
          <a:xfrm>
            <a:off x="5357880" y="3929040"/>
            <a:ext cx="1000080" cy="43812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3" descr=""/>
          <p:cNvPicPr/>
          <p:nvPr/>
        </p:nvPicPr>
        <p:blipFill>
          <a:blip r:embed="rId6"/>
          <a:stretch/>
        </p:blipFill>
        <p:spPr>
          <a:xfrm>
            <a:off x="3571920" y="4500720"/>
            <a:ext cx="1571760" cy="43812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3" descr=""/>
          <p:cNvPicPr/>
          <p:nvPr/>
        </p:nvPicPr>
        <p:blipFill>
          <a:blip r:embed="rId7"/>
          <a:stretch/>
        </p:blipFill>
        <p:spPr>
          <a:xfrm>
            <a:off x="4357800" y="5572080"/>
            <a:ext cx="1571400" cy="43812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3" descr=""/>
          <p:cNvPicPr/>
          <p:nvPr/>
        </p:nvPicPr>
        <p:blipFill>
          <a:blip r:embed="rId8"/>
          <a:stretch/>
        </p:blipFill>
        <p:spPr>
          <a:xfrm>
            <a:off x="7215120" y="5551560"/>
            <a:ext cx="1571760" cy="4381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3" descr=""/>
          <p:cNvPicPr/>
          <p:nvPr/>
        </p:nvPicPr>
        <p:blipFill>
          <a:blip r:embed="rId9"/>
          <a:stretch/>
        </p:blipFill>
        <p:spPr>
          <a:xfrm>
            <a:off x="1285920" y="6072120"/>
            <a:ext cx="15717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14" name="Picture 3" descr=""/>
          <p:cNvPicPr/>
          <p:nvPr/>
        </p:nvPicPr>
        <p:blipFill>
          <a:blip r:embed="rId1"/>
          <a:stretch/>
        </p:blipFill>
        <p:spPr>
          <a:xfrm>
            <a:off x="461880" y="907920"/>
            <a:ext cx="8220240" cy="579132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3" descr=""/>
          <p:cNvPicPr/>
          <p:nvPr/>
        </p:nvPicPr>
        <p:blipFill>
          <a:blip r:embed="rId2"/>
          <a:stretch/>
        </p:blipFill>
        <p:spPr>
          <a:xfrm>
            <a:off x="3143160" y="1357200"/>
            <a:ext cx="1571760" cy="43812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3" descr=""/>
          <p:cNvPicPr/>
          <p:nvPr/>
        </p:nvPicPr>
        <p:blipFill>
          <a:blip r:embed="rId3"/>
          <a:stretch/>
        </p:blipFill>
        <p:spPr>
          <a:xfrm>
            <a:off x="1785960" y="1884240"/>
            <a:ext cx="1571760" cy="43812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3" descr=""/>
          <p:cNvPicPr/>
          <p:nvPr/>
        </p:nvPicPr>
        <p:blipFill>
          <a:blip r:embed="rId4"/>
          <a:stretch/>
        </p:blipFill>
        <p:spPr>
          <a:xfrm>
            <a:off x="3000240" y="2928960"/>
            <a:ext cx="1571760" cy="4381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3" descr=""/>
          <p:cNvPicPr/>
          <p:nvPr/>
        </p:nvPicPr>
        <p:blipFill>
          <a:blip r:embed="rId5"/>
          <a:stretch/>
        </p:blipFill>
        <p:spPr>
          <a:xfrm>
            <a:off x="4929120" y="2928960"/>
            <a:ext cx="1857600" cy="43812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3" descr=""/>
          <p:cNvPicPr/>
          <p:nvPr/>
        </p:nvPicPr>
        <p:blipFill>
          <a:blip r:embed="rId6"/>
          <a:stretch/>
        </p:blipFill>
        <p:spPr>
          <a:xfrm>
            <a:off x="4714920" y="4000680"/>
            <a:ext cx="1857240" cy="43812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3" descr=""/>
          <p:cNvPicPr/>
          <p:nvPr/>
        </p:nvPicPr>
        <p:blipFill>
          <a:blip r:embed="rId7"/>
          <a:stretch/>
        </p:blipFill>
        <p:spPr>
          <a:xfrm>
            <a:off x="7000920" y="4000680"/>
            <a:ext cx="1857240" cy="43812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3" descr=""/>
          <p:cNvPicPr/>
          <p:nvPr/>
        </p:nvPicPr>
        <p:blipFill>
          <a:blip r:embed="rId8"/>
          <a:stretch/>
        </p:blipFill>
        <p:spPr>
          <a:xfrm>
            <a:off x="2571840" y="4500720"/>
            <a:ext cx="1214280" cy="43812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3" descr=""/>
          <p:cNvPicPr/>
          <p:nvPr/>
        </p:nvPicPr>
        <p:blipFill>
          <a:blip r:embed="rId9"/>
          <a:stretch/>
        </p:blipFill>
        <p:spPr>
          <a:xfrm>
            <a:off x="1714680" y="6216480"/>
            <a:ext cx="621504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25" name="Picture 3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420320" cy="526716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3" descr=""/>
          <p:cNvPicPr/>
          <p:nvPr/>
        </p:nvPicPr>
        <p:blipFill>
          <a:blip r:embed="rId2"/>
          <a:stretch/>
        </p:blipFill>
        <p:spPr>
          <a:xfrm>
            <a:off x="1143000" y="1593720"/>
            <a:ext cx="7358040" cy="4381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3" descr=""/>
          <p:cNvPicPr/>
          <p:nvPr/>
        </p:nvPicPr>
        <p:blipFill>
          <a:blip r:embed="rId3"/>
          <a:stretch/>
        </p:blipFill>
        <p:spPr>
          <a:xfrm>
            <a:off x="1143000" y="3171960"/>
            <a:ext cx="7358040" cy="43812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3" descr=""/>
          <p:cNvPicPr/>
          <p:nvPr/>
        </p:nvPicPr>
        <p:blipFill>
          <a:blip r:embed="rId4"/>
          <a:stretch/>
        </p:blipFill>
        <p:spPr>
          <a:xfrm>
            <a:off x="1143000" y="3705120"/>
            <a:ext cx="7358040" cy="43812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3" descr=""/>
          <p:cNvPicPr/>
          <p:nvPr/>
        </p:nvPicPr>
        <p:blipFill>
          <a:blip r:embed="rId5"/>
          <a:stretch/>
        </p:blipFill>
        <p:spPr>
          <a:xfrm>
            <a:off x="1295280" y="4754520"/>
            <a:ext cx="7358040" cy="43812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3" descr=""/>
          <p:cNvPicPr/>
          <p:nvPr/>
        </p:nvPicPr>
        <p:blipFill>
          <a:blip r:embed="rId6"/>
          <a:stretch/>
        </p:blipFill>
        <p:spPr>
          <a:xfrm>
            <a:off x="1357200" y="5810400"/>
            <a:ext cx="73580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6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1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1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6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33" name="Picture 2" descr=""/>
          <p:cNvPicPr/>
          <p:nvPr/>
        </p:nvPicPr>
        <p:blipFill>
          <a:blip r:embed="rId1"/>
          <a:stretch/>
        </p:blipFill>
        <p:spPr>
          <a:xfrm>
            <a:off x="642960" y="981000"/>
            <a:ext cx="7858080" cy="541980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3" descr=""/>
          <p:cNvPicPr/>
          <p:nvPr/>
        </p:nvPicPr>
        <p:blipFill>
          <a:blip r:embed="rId2"/>
          <a:stretch/>
        </p:blipFill>
        <p:spPr>
          <a:xfrm>
            <a:off x="5572080" y="1620720"/>
            <a:ext cx="561960" cy="4381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3" descr=""/>
          <p:cNvPicPr/>
          <p:nvPr/>
        </p:nvPicPr>
        <p:blipFill>
          <a:blip r:embed="rId3"/>
          <a:stretch/>
        </p:blipFill>
        <p:spPr>
          <a:xfrm>
            <a:off x="5938920" y="2682720"/>
            <a:ext cx="561960" cy="4384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3" descr=""/>
          <p:cNvPicPr/>
          <p:nvPr/>
        </p:nvPicPr>
        <p:blipFill>
          <a:blip r:embed="rId4"/>
          <a:stretch/>
        </p:blipFill>
        <p:spPr>
          <a:xfrm>
            <a:off x="7329600" y="3205080"/>
            <a:ext cx="561960" cy="43812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3" descr=""/>
          <p:cNvPicPr/>
          <p:nvPr/>
        </p:nvPicPr>
        <p:blipFill>
          <a:blip r:embed="rId5"/>
          <a:stretch/>
        </p:blipFill>
        <p:spPr>
          <a:xfrm>
            <a:off x="3357720" y="4253040"/>
            <a:ext cx="561960" cy="43812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3" descr=""/>
          <p:cNvPicPr/>
          <p:nvPr/>
        </p:nvPicPr>
        <p:blipFill>
          <a:blip r:embed="rId6"/>
          <a:stretch/>
        </p:blipFill>
        <p:spPr>
          <a:xfrm>
            <a:off x="3297240" y="5308560"/>
            <a:ext cx="5619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3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8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3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8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3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41" name="Picture 2" descr=""/>
          <p:cNvPicPr/>
          <p:nvPr/>
        </p:nvPicPr>
        <p:blipFill>
          <a:blip r:embed="rId1"/>
          <a:stretch/>
        </p:blipFill>
        <p:spPr>
          <a:xfrm>
            <a:off x="1371600" y="1566720"/>
            <a:ext cx="640080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3" descr=""/>
          <p:cNvPicPr/>
          <p:nvPr/>
        </p:nvPicPr>
        <p:blipFill>
          <a:blip r:embed="rId1"/>
          <a:stretch/>
        </p:blipFill>
        <p:spPr>
          <a:xfrm>
            <a:off x="528480" y="846000"/>
            <a:ext cx="8087040" cy="58960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1643040" y="1714680"/>
            <a:ext cx="500040" cy="4381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1714680" y="2928960"/>
            <a:ext cx="500040" cy="438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4"/>
          <a:stretch/>
        </p:blipFill>
        <p:spPr>
          <a:xfrm>
            <a:off x="1714680" y="5572080"/>
            <a:ext cx="5000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3" name="Picture 2" descr=""/>
          <p:cNvPicPr/>
          <p:nvPr/>
        </p:nvPicPr>
        <p:blipFill>
          <a:blip r:embed="rId1"/>
          <a:stretch/>
        </p:blipFill>
        <p:spPr>
          <a:xfrm>
            <a:off x="852480" y="1093680"/>
            <a:ext cx="7439040" cy="51436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3" descr=""/>
          <p:cNvPicPr/>
          <p:nvPr/>
        </p:nvPicPr>
        <p:blipFill>
          <a:blip r:embed="rId2"/>
          <a:stretch/>
        </p:blipFill>
        <p:spPr>
          <a:xfrm>
            <a:off x="1428840" y="2428920"/>
            <a:ext cx="500040" cy="4381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3" descr=""/>
          <p:cNvPicPr/>
          <p:nvPr/>
        </p:nvPicPr>
        <p:blipFill>
          <a:blip r:embed="rId3"/>
          <a:stretch/>
        </p:blipFill>
        <p:spPr>
          <a:xfrm>
            <a:off x="1357200" y="4419720"/>
            <a:ext cx="5000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8" name="Picture 1" descr=""/>
          <p:cNvPicPr/>
          <p:nvPr/>
        </p:nvPicPr>
        <p:blipFill>
          <a:blip r:embed="rId1"/>
          <a:stretch/>
        </p:blipFill>
        <p:spPr>
          <a:xfrm>
            <a:off x="561960" y="1257480"/>
            <a:ext cx="8020080" cy="43434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2"/>
          <a:stretch/>
        </p:blipFill>
        <p:spPr>
          <a:xfrm>
            <a:off x="1785960" y="2143080"/>
            <a:ext cx="5000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2" name="Picture 2" descr=""/>
          <p:cNvPicPr/>
          <p:nvPr/>
        </p:nvPicPr>
        <p:blipFill>
          <a:blip r:embed="rId1"/>
          <a:stretch/>
        </p:blipFill>
        <p:spPr>
          <a:xfrm>
            <a:off x="852480" y="1647720"/>
            <a:ext cx="7439040" cy="35625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3" descr=""/>
          <p:cNvPicPr/>
          <p:nvPr/>
        </p:nvPicPr>
        <p:blipFill>
          <a:blip r:embed="rId2"/>
          <a:stretch/>
        </p:blipFill>
        <p:spPr>
          <a:xfrm>
            <a:off x="1285920" y="1776240"/>
            <a:ext cx="50004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6" name="Picture 1" descr=""/>
          <p:cNvPicPr/>
          <p:nvPr/>
        </p:nvPicPr>
        <p:blipFill>
          <a:blip r:embed="rId1"/>
          <a:stretch/>
        </p:blipFill>
        <p:spPr>
          <a:xfrm>
            <a:off x="914400" y="1662120"/>
            <a:ext cx="7315200" cy="35337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3" descr=""/>
          <p:cNvPicPr/>
          <p:nvPr/>
        </p:nvPicPr>
        <p:blipFill>
          <a:blip r:embed="rId2"/>
          <a:stretch/>
        </p:blipFill>
        <p:spPr>
          <a:xfrm>
            <a:off x="1357200" y="1785960"/>
            <a:ext cx="5000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0" name="Picture 1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344000" cy="581040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3" descr=""/>
          <p:cNvPicPr/>
          <p:nvPr/>
        </p:nvPicPr>
        <p:blipFill>
          <a:blip r:embed="rId2"/>
          <a:stretch/>
        </p:blipFill>
        <p:spPr>
          <a:xfrm>
            <a:off x="1357200" y="857160"/>
            <a:ext cx="500040" cy="4381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3" descr=""/>
          <p:cNvPicPr/>
          <p:nvPr/>
        </p:nvPicPr>
        <p:blipFill>
          <a:blip r:embed="rId3"/>
          <a:stretch/>
        </p:blipFill>
        <p:spPr>
          <a:xfrm>
            <a:off x="1285920" y="4121280"/>
            <a:ext cx="5000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5" name="Picture 1" descr=""/>
          <p:cNvPicPr/>
          <p:nvPr/>
        </p:nvPicPr>
        <p:blipFill>
          <a:blip r:embed="rId1"/>
          <a:stretch/>
        </p:blipFill>
        <p:spPr>
          <a:xfrm>
            <a:off x="557280" y="826920"/>
            <a:ext cx="8029440" cy="591516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3" descr=""/>
          <p:cNvPicPr/>
          <p:nvPr/>
        </p:nvPicPr>
        <p:blipFill>
          <a:blip r:embed="rId2"/>
          <a:stretch/>
        </p:blipFill>
        <p:spPr>
          <a:xfrm>
            <a:off x="1785960" y="1500120"/>
            <a:ext cx="500040" cy="4381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3" descr=""/>
          <p:cNvPicPr/>
          <p:nvPr/>
        </p:nvPicPr>
        <p:blipFill>
          <a:blip r:embed="rId3"/>
          <a:stretch/>
        </p:blipFill>
        <p:spPr>
          <a:xfrm>
            <a:off x="1714680" y="4133880"/>
            <a:ext cx="5000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0" name="Picture 1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610400" cy="48196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3" descr=""/>
          <p:cNvPicPr/>
          <p:nvPr/>
        </p:nvPicPr>
        <p:blipFill>
          <a:blip r:embed="rId2"/>
          <a:stretch/>
        </p:blipFill>
        <p:spPr>
          <a:xfrm>
            <a:off x="1214280" y="1357200"/>
            <a:ext cx="5004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5:08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